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8AA-C2D1-4798-B042-5598EEE3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0A5D-D596-4923-8F63-9EEAA9D3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A65B-9435-4DC3-91DD-A536D774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1B42-5DB2-4FDB-9204-20D302B7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D45-36A5-4257-A279-817840B9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2D4-C3B6-41BD-87E5-791B0D22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59F-4620-434D-BF3D-D54A509D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053-6D40-4694-B956-599C002E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807C-A6AD-41CB-AAB3-5E51673D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959-30F2-4417-8E2A-5E39D77C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217-6C12-409B-88D5-3AB4BAEF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95A3-D790-480D-A7C2-3FDA0384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AB45-8C49-46FE-B32C-5211CC603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newyork.shtml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enchantedlearning.com/usa/states/newyork/" TargetMode="External"/><Relationship Id="rId4" Type="http://schemas.openxmlformats.org/officeDocument/2006/relationships/hyperlink" Target="http://www.enchantedlearning.com/usa/statesbw/newyork.shtml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law.ou.edu/ushistory/flags/nyflag.jp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birds/printouts/Easternbluebird.shtml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www.enchantedlearning.com/subjects/mammals/rodent/Beavprintout.shtml" TargetMode="External"/><Relationship Id="rId4" Type="http://schemas.openxmlformats.org/officeDocument/2006/relationships/image" Target="../media/image9.png"/><Relationship Id="rId5" Type="http://schemas.openxmlformats.org/officeDocument/2006/relationships/hyperlink" Target="http://www.enchantedlearning.com/subjects/insects/ladybug/Ladybug.shtml" TargetMode="Externa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315200" y="4952880"/>
            <a:ext cx="4419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ison 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19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66680" y="838080"/>
            <a:ext cx="66294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apyrus"/>
              </a:rPr>
              <a:t>New York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Papyrus"/>
              <a:ea typeface="Papyru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91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803920"/>
            <a:ext cx="4648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ew York State So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4/10/12, 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Capital: Alb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Population: 18,096,4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Entered the Union: July 26, 1788 (1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Papyru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Motto: Excels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Nickname: Empir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Flower: 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Bird: Blue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Song: I Love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Meaning Behind Name: Named for the duke of York, the brother Charle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91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apyrus"/>
              </a:rPr>
              <a:t>Interesting Facts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apyrus"/>
              </a:rPr>
              <a:t>Gem: Moonstone (others not included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apyrus"/>
              </a:rPr>
              <a:t>Major Industries: Finance, communications, international trade, publishing, fashion, farming (fruit, dairy)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apyrus"/>
              </a:rPr>
              <a:t>State Tree: Sugar Map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491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52280"/>
            <a:ext cx="5181840" cy="3810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2784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Yo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-21-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newyork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4114800"/>
            <a:ext cx="358128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38680" y="144792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New York is also referred to as, </a:t>
            </a:r>
            <a:r>
              <a:rPr b="0" i="1" lang="en-US" sz="2800" spc="-1" strike="noStrike">
                <a:solidFill>
                  <a:srgbClr val="000000"/>
                </a:solidFill>
                <a:latin typeface="Papyrus"/>
              </a:rPr>
              <a:t>the Empire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019920" cy="3962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76720" y="48769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New York’s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340320"/>
            <a:ext cx="472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State Flags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Yo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-22-2012,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aw.ou.edu/ushistory/flags/nyflag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609480"/>
            <a:ext cx="251460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2286000"/>
            <a:ext cx="2133360" cy="1838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7120" y="4191120"/>
            <a:ext cx="1752480" cy="1676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127920"/>
            <a:ext cx="41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Yo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-22-12, http://www.enchantedlearning.com/usa/states/newyork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2743200"/>
            <a:ext cx="3962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Papyrus"/>
              </a:rPr>
              <a:t>Eastern Bluebir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3809880"/>
            <a:ext cx="1828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Papyrus"/>
              </a:rPr>
              <a:t>Bea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5867280"/>
            <a:ext cx="3200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Papyrus"/>
              </a:rPr>
              <a:t>Nine-Spotted Ladybu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41911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New York is known for these animal symb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487692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219320" cy="1752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1066680" cy="1024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0" y="6248520"/>
            <a:ext cx="51814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Yo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-22-12, http://www.enchantedlearning.com/usa/states/newyork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371600"/>
            <a:ext cx="1752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Papyrus"/>
              </a:rPr>
              <a:t>Ap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343400"/>
            <a:ext cx="1066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Papyrus"/>
              </a:rPr>
              <a:t>Ro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81080"/>
            <a:ext cx="2133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Papyrus"/>
              </a:rPr>
              <a:t>Sugar Ma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2133720"/>
            <a:ext cx="49532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Papyrus"/>
              </a:rPr>
              <a:t>One of New York’s biggest industries is farming fruit and dairy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457200" y="380880"/>
            <a:ext cx="4343400" cy="297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All images Copyright © 1997 - 2000 WriteLine. All Rights Reserved."/>
          <p:cNvPicPr/>
          <p:nvPr/>
        </p:nvPicPr>
        <p:blipFill>
          <a:blip r:embed="rId2"/>
          <a:stretch/>
        </p:blipFill>
        <p:spPr>
          <a:xfrm>
            <a:off x="4724280" y="3276720"/>
            <a:ext cx="4267440" cy="2971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638680" y="1066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New York’s state capital is Alb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340320"/>
            <a:ext cx="42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 Postcards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lbany, New Yo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3-22-12, http://www.postcardsfrom.com/t1/980602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37Z</dcterms:created>
  <dc:creator>install</dc:creator>
  <dc:description/>
  <dc:language>en-US</dc:language>
  <cp:lastModifiedBy>install</cp:lastModifiedBy>
  <dcterms:modified xsi:type="dcterms:W3CDTF">2012-04-16T13:04:46Z</dcterms:modified>
  <cp:revision>16</cp:revision>
  <dc:subject/>
  <dc:title>Slide 1</dc:title>
</cp:coreProperties>
</file>